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2F184-94A7-4974-9AEC-BDCFACF28E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821DD-E522-4838-8DE1-D28C7284F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EC496-D28F-4096-B69A-12C866550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28689-D24F-4D00-BA34-28CD93E50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FD55A-0C58-48E0-8ADC-AB8C55F2F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24B0A-C4BA-4990-8B72-43E66A14E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51331-7F22-4274-988F-E36FEE7A2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B490A-8F2F-4B60-BB5E-D0FBF748E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88FEC-C1C7-4FDB-99DB-11C7410C3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2754D-5E2B-4496-9A46-4D451B26D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71EF2-C9C8-4980-A047-4741F3C27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89AEC-7619-45DF-99D9-80ACA4806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9694A-126E-4084-8053-235489466761}"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52280"/>
            <a:ext cx="7772400" cy="432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Urban Models For MEDC’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arris And Ulman</a:t>
            </a:r>
            <a:endParaRPr b="0" lang="en-US" sz="4400" spc="-1" strike="noStrike">
              <a:solidFill>
                <a:srgbClr val="000000"/>
              </a:solidFill>
              <a:latin typeface="Calibri"/>
            </a:endParaRPr>
          </a:p>
        </p:txBody>
      </p:sp>
      <p:sp>
        <p:nvSpPr>
          <p:cNvPr id="59"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model was aimed at being more specific than the other two, however it also has become more complic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ris and Ullman still have a central CBD, but they also have other smaller centres performing specific functions that Hoyt and Burgess decided would have been found in and around the CB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us Harris &amp;amp; Ullman also have a business centre, and industrial park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arris And Ulman</a:t>
            </a:r>
            <a:endParaRPr b="0" lang="en-US" sz="4400" spc="-1" strike="noStrike">
              <a:solidFill>
                <a:srgbClr val="000000"/>
              </a:solidFill>
              <a:latin typeface="Calibri"/>
            </a:endParaRPr>
          </a:p>
        </p:txBody>
      </p:sp>
      <p:sp>
        <p:nvSpPr>
          <p:cNvPr id="61"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cities do display some of these characteristic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ondon</a:t>
            </a:r>
            <a:r>
              <a:rPr b="0" lang="en-US" sz="2800" spc="-1" strike="noStrike">
                <a:solidFill>
                  <a:srgbClr val="000000"/>
                </a:solidFill>
                <a:latin typeface="Calibri"/>
              </a:rPr>
              <a:t> has different areas of its centre that have different functions: the City, Westminster, Oxford Street and the West End all have differing specific func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don has also grown to engulf other towns and villages, which have become smaller CBD's within the whole of Greater Lond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CBD's act as growth poles, meaning that the city does not just grow from one central point, but from many spread around its are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hat Are They?</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ten in geography models are used to try to explain something that we can see in the physical environm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the 20</a:t>
            </a:r>
            <a:r>
              <a:rPr b="0" lang="en-US" sz="3200" spc="-1" strike="noStrike" baseline="30000">
                <a:solidFill>
                  <a:srgbClr val="000000"/>
                </a:solidFill>
                <a:latin typeface="Calibri"/>
              </a:rPr>
              <a:t>th</a:t>
            </a:r>
            <a:r>
              <a:rPr b="0" lang="en-US" sz="3200" spc="-1" strike="noStrike">
                <a:solidFill>
                  <a:srgbClr val="000000"/>
                </a:solidFill>
                <a:latin typeface="Calibri"/>
              </a:rPr>
              <a:t> century a number of models were developed to try to explain how urban areas grew.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though models show a very general idea of the shape of the city, all of the ones described here have aspects that can be seen in most cities in the developed and developing worl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Burgess</a:t>
            </a:r>
            <a:endParaRPr b="0" lang="en-US" sz="4400" spc="-1" strike="noStrike">
              <a:solidFill>
                <a:srgbClr val="000000"/>
              </a:solidFill>
              <a:latin typeface="Calibri"/>
            </a:endParaRPr>
          </a:p>
        </p:txBody>
      </p:sp>
      <p:pic>
        <p:nvPicPr>
          <p:cNvPr id="45" name="Picture 2" descr="http://www.success4dummies.com/wp-content/uploads/2009/07/burgess.gif"/>
          <p:cNvPicPr/>
          <p:nvPr/>
        </p:nvPicPr>
        <p:blipFill>
          <a:blip r:embed="rId1"/>
          <a:stretch/>
        </p:blipFill>
        <p:spPr>
          <a:xfrm>
            <a:off x="0" y="1268280"/>
            <a:ext cx="9144000" cy="522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Burgess</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rgess based his model on the city of Chicag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its core is the </a:t>
            </a:r>
            <a:r>
              <a:rPr b="1" lang="en-US" sz="2800" spc="-1" strike="noStrike">
                <a:solidFill>
                  <a:srgbClr val="000000"/>
                </a:solidFill>
                <a:latin typeface="Calibri"/>
              </a:rPr>
              <a:t>CBD</a:t>
            </a:r>
            <a:r>
              <a:rPr b="0" lang="en-US" sz="2800" spc="-1" strike="noStrike">
                <a:solidFill>
                  <a:srgbClr val="000000"/>
                </a:solidFill>
                <a:latin typeface="Calibri"/>
              </a:rPr>
              <a:t>, or </a:t>
            </a:r>
            <a:r>
              <a:rPr b="1" lang="en-US" sz="2800" spc="-1" strike="noStrike">
                <a:solidFill>
                  <a:srgbClr val="000000"/>
                </a:solidFill>
                <a:latin typeface="Calibri"/>
              </a:rPr>
              <a:t>Central Business District.</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the area with the highest land price, which could only be afforded by business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ound this is the zone of transition, which is where industry locate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many cities in the UK, such as Birmingham, this zone can be quite easily identifie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in most cases the industry has moved out, leaving the zone empty and in need of renew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Burgess</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eyond the zone of transition are the rings of residential housing.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s people became more wealthy they could afford to live further out of town, in bigger houses, with larger gardens.</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houses closest to the centre originally would have housed the workers for the inner city industries.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any British cities still have many of these terraced houses remaining.</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s people moved away from the CBD, the houses closest to the centre would be taken by newly arrived immigrants to the city, either from elsewhere in the country or abroad.</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oyt’s Sector Model</a:t>
            </a:r>
            <a:endParaRPr b="0" lang="en-US" sz="4400" spc="-1" strike="noStrike">
              <a:solidFill>
                <a:srgbClr val="000000"/>
              </a:solidFill>
              <a:latin typeface="Calibri"/>
            </a:endParaRPr>
          </a:p>
        </p:txBody>
      </p:sp>
      <p:pic>
        <p:nvPicPr>
          <p:cNvPr id="51" name="Picture 2" descr="http://www.geography.learnontheinternet.co.uk/images/urban/hoyt.gif"/>
          <p:cNvPicPr/>
          <p:nvPr/>
        </p:nvPicPr>
        <p:blipFill>
          <a:blip r:embed="rId1"/>
          <a:stretch/>
        </p:blipFill>
        <p:spPr>
          <a:xfrm>
            <a:off x="0" y="1557360"/>
            <a:ext cx="914400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oyt</a:t>
            </a:r>
            <a:endParaRPr b="0" lang="en-US" sz="4400" spc="-1" strike="noStrike">
              <a:solidFill>
                <a:srgbClr val="000000"/>
              </a:solidFill>
              <a:latin typeface="Calibri"/>
            </a:endParaRPr>
          </a:p>
        </p:txBody>
      </p:sp>
      <p:sp>
        <p:nvSpPr>
          <p:cNvPr id="53" name=""/>
          <p:cNvSpPr txBox="1"/>
          <p:nvPr/>
        </p:nvSpPr>
        <p:spPr>
          <a:xfrm>
            <a:off x="457200" y="1599840"/>
            <a:ext cx="8229600" cy="525780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sector model has a similar idea of a CBD to Burgess.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is still the area with the highest land price.</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oyt then used transport routes to determine where his other sectors would be located.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e still had a zone of transition around the CBD, but he also had industry fanning out from the centre along major transport routes.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e assumed that "Like would attract like", which is why he decided that land-uses would concentrate to form sectors, rather being in rings, like Burgess though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oyt</a:t>
            </a:r>
            <a:endParaRPr b="0" lang="en-US" sz="4400" spc="-1" strike="noStrike">
              <a:solidFill>
                <a:srgbClr val="000000"/>
              </a:solidFill>
              <a:latin typeface="Calibri"/>
            </a:endParaRPr>
          </a:p>
        </p:txBody>
      </p:sp>
      <p:sp>
        <p:nvSpPr>
          <p:cNvPr id="55"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owest class housing would be closest to the industry, and probably be located where the prevailing winds would blow the pollution towards them (and away from the higher class hou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igh class housing also is in a sector of its own, running all the way from the CBD, where many of the residents would work, to the outer suburb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00"/>
                </a:solidFill>
                <a:uFillTx/>
                <a:latin typeface="Calibri"/>
              </a:rPr>
              <a:t>Harris And Ulman’s Multiple Nuclei Model</a:t>
            </a:r>
            <a:endParaRPr b="0" lang="en-US" sz="4000" spc="-1" strike="noStrike">
              <a:solidFill>
                <a:srgbClr val="000000"/>
              </a:solidFill>
              <a:latin typeface="Calibri"/>
            </a:endParaRPr>
          </a:p>
        </p:txBody>
      </p:sp>
      <p:pic>
        <p:nvPicPr>
          <p:cNvPr id="57" name="Picture 2" descr="http://upload.wikimedia.org/wikipedia/commons/thumb/b/b1/Ulman2.png/400px-Ulman2.png"/>
          <p:cNvPicPr/>
          <p:nvPr/>
        </p:nvPicPr>
        <p:blipFill>
          <a:blip r:embed="rId1"/>
          <a:stretch/>
        </p:blipFill>
        <p:spPr>
          <a:xfrm>
            <a:off x="1042920" y="1549440"/>
            <a:ext cx="7164360" cy="515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00:49:25Z</dcterms:created>
  <dc:creator>Dell_02</dc:creator>
  <dc:description/>
  <dc:language>en-US</dc:language>
  <cp:lastModifiedBy>Dell_02</cp:lastModifiedBy>
  <dcterms:modified xsi:type="dcterms:W3CDTF">2011-01-26T01:04:42Z</dcterms:modified>
  <cp:revision>2</cp:revision>
  <dc:subject/>
  <dc:title>Urban Models For MEDC’s</dc:title>
</cp:coreProperties>
</file>